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915B-FDF2-48DE-9E40-CC55963E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1003-C4E3-4A64-8075-445BE9C0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EFF7-067B-4772-8935-312E7AFC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87F2-DE20-4F2F-B67A-3FC81A0A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F13B-195E-4D91-8347-AF706BE3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72F6-5D75-443B-A0E0-70827082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281C-C3DC-4A3A-907A-053D0196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3809-61DF-4866-9B61-5A1DABB8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2AAD-5FF7-47B7-A852-E98EB79D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A671-787F-48FD-8E81-625CF457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6F12-EF99-4BA2-81A0-0CDCB923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EAD7-8F39-49E0-9958-65983047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86DC-CE40-43C7-8E9F-01114ABA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D1F4-2481-4777-AA64-C29E8A14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9BFF-B66D-4E45-82D1-CAA45666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3F3E-0A59-4C0A-81FE-2C077848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92FB-8631-4E10-AD3F-4C67745A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6CD4-280F-4E5F-A2DA-F5129FC4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976E-BF67-461E-B39B-273B16FC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BEB2-BEC3-4495-85EE-6BAC8756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B7D3-9A96-4496-9AC4-1979FCD7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CBA-B7A8-4C45-9AED-797BE22A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57B3-1F24-462C-A942-AE881131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5B0B-57DF-48FC-9C82-B18567A2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93DE-B1D9-44F0-9501-8492E9715DF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6F0A-548D-43D6-9743-F6381E34B47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naliza SWO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undatia ADOLESCENTU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uncte tar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uncte slab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Oportunităț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Amenințăr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21:14:53Z</dcterms:created>
  <dc:creator>AS</dc:creator>
  <dc:description/>
  <dc:language>en-US</dc:language>
  <cp:lastModifiedBy>AS</cp:lastModifiedBy>
  <dcterms:modified xsi:type="dcterms:W3CDTF">2010-01-08T15:55:48Z</dcterms:modified>
  <cp:revision>4</cp:revision>
  <dc:subject/>
  <dc:title>Analiza SWOT</dc:title>
</cp:coreProperties>
</file>